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C2E-FB1C-44A1-B5DC-47797694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F0A-DF28-4D2C-AB4E-564D8B77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BACE-8651-4238-A59E-BB71F93F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959B-A1F2-4482-A500-6934AE3B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031A8-3F11-4ED5-941C-13E0C130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BC2F2-C1F2-4CD6-870B-456A7760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49837-A9F4-48C4-834F-2FC446B3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357E8-38AB-43BB-BEF1-FFAC17CA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9C29D-350A-4C50-9510-EBE771F7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375B4-9F93-41A1-9579-EFCC6B6A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19499-4F62-4F58-A131-1E483D93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25BF-6401-4091-AB03-F37A159F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DC5CD-9C7B-4B95-81FA-79AFA53C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A905E-AEEC-420E-95F0-65FF8FA1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73F8A-C4FE-4C00-AABE-87DBC8B9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465A6-E6B1-42F0-B32D-76E63FE9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67455-540E-4604-89B4-85221A6C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77EB-21BC-46C2-B49D-A7C789D2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B31-BE5A-4A0A-A061-85BFC2D8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B7B4-BFCB-4860-8198-89872861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F3F3-B343-44C8-88E0-A66F6307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4F3F-A3D8-43F8-9610-19C1AB69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4D3B-1295-4E5D-B08B-D2D6689B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EA2B-0568-457F-9DEF-D1766CE5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C209-A9D5-4357-B00C-83F195AE0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AABD-F6A6-4249-B341-8232A18AE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rlow Solid Italic"/>
              </a:rPr>
              <a:t>Meine Gesundhei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5867280" cy="440064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5" name=""/>
          <p:cNvSpPr/>
          <p:nvPr/>
        </p:nvSpPr>
        <p:spPr>
          <a:xfrm>
            <a:off x="609480" y="1143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uhaus 93"/>
              </a:rPr>
              <a:t>Gustav Ry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esse viel Obst und Gemüs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33520" y="1816200"/>
            <a:ext cx="3124080" cy="26064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24480" y="4329000"/>
            <a:ext cx="2400480" cy="23288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638680" y="1600200"/>
            <a:ext cx="2036880" cy="22003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600200" y="4343400"/>
            <a:ext cx="3048120" cy="2089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 jogge jeden tag in dem Morge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20680" y="2362320"/>
            <a:ext cx="2232000" cy="3620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638680" y="2971800"/>
            <a:ext cx="2787840" cy="3467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trinke keinen Alkohol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2610000" cy="4467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267080" y="2057400"/>
            <a:ext cx="3810240" cy="38098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finde es schlecht, dass du rauchs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2286000" y="251460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finde es prima dass du schlafst sehr genügen und isst dein Frühstück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2857320" cy="28573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48320" y="2895480"/>
            <a:ext cx="3809880" cy="28576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darf die Fenster putzen weil ich grosse Junge bi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905120" y="2286000"/>
            <a:ext cx="4876560" cy="3235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darf nicht schlafe spät weil es ungesund is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0" t="0" r="0" b="9479"/>
          <a:stretch/>
        </p:blipFill>
        <p:spPr>
          <a:xfrm>
            <a:off x="2362320" y="2057400"/>
            <a:ext cx="4762440" cy="3276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7:29:59Z</dcterms:created>
  <dc:creator>CUSD220</dc:creator>
  <dc:description/>
  <dc:language>en-US</dc:language>
  <cp:lastModifiedBy>CUSD220</cp:lastModifiedBy>
  <dcterms:modified xsi:type="dcterms:W3CDTF">2012-03-06T14:23:46Z</dcterms:modified>
  <cp:revision>5</cp:revision>
  <dc:subject/>
  <dc:title>Meine Gesundheit</dc:title>
</cp:coreProperties>
</file>